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S252 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F8D3FD0-5B28-4B2C-88C5-73253A27AAED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fld id="{07034B17-AF1C-47C5-86B5-A838F20F3D4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3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E55C338-266B-43A7-B576-FC46D1DB0EC1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802EA6D-DB27-4ABB-8398-1311DB54D876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979EDEF-A60F-407E-BB2C-ADE8EEE78BCA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5149F76-9409-4D3F-BF62-EF423201E3BF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1E7DCD0-2612-41B8-9EB9-6793BC7D4209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C6717FF-5A31-46E1-84C6-CFE1B66ACEFB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B1D3CAA-A29B-4B4E-930D-222F4B0A0167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4F1896F-395D-49F2-9766-D011A8E639E9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45578EC-C3D2-4E94-B54F-D7C21A6800E2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F3F29C1-2A98-4FEF-A242-8577B9A73FA4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B8834D3-4BE3-4231-9B93-9C9B79B4E1B0}" type="slidenum">
              <a:rPr b="0" i="1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021B4F6-B716-4AB4-BF3D-F938E5CA8516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727253E-C5DB-4C4F-86F1-06C03A26C996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7FB1739-88C5-462F-974C-E30DD2D2F788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1B7-6DB8-4DE3-ADF2-22CF2D40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85B-E39C-4D2E-8AE3-1AC5358F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8C3-B30B-4835-AFCD-7FF7EFF3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A25-D973-4517-9D8A-24EABA80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5B6A-BE5A-410E-9DAA-09EFA18C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2E53-0E20-4DD3-A203-CF3F25B1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52DA-9157-4BF3-953B-603C3F1A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F044-6763-451E-B78E-348EB976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2B32-AAC7-4404-BC40-EFB686CB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B101-1CB2-428E-BAF5-011AC774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3C95-885E-4264-A362-A654D9EB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398-180D-4C4B-8343-1875FB60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8D14-ED9A-4A58-98C6-A57E251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C897-F86D-48F8-BE97-9671CEA1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6C48-86DB-4122-B18D-29F92650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91FC-CE56-40A2-8962-C61A4A7B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222D-1BBF-4D77-927D-4E3EED04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70C82-8364-4FB9-9E36-136D026C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7A11-8593-40FC-B2C7-59018252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E6EF-EF76-44BD-BBEB-53450E72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D382-9720-48F3-93EE-1CA3B342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F99C-8D1F-402D-B24C-46264DD3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32E-54E7-4165-8849-5BA17448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FD90-B6AF-49AB-9C6D-295B949E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DC01-B30E-44F4-975F-863009C9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4C4A3-00BE-4EBB-B959-AE83E44F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ED963-1568-4296-A9F9-DE918055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7C692-F669-4E88-A974-2EE48AEA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1E0FA-6C7A-4714-B3EE-444E4096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4C21-57D3-4355-A3A8-250C001D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056-3AE4-4435-9DEB-5676A178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B2B-0DEC-4542-BA75-C979057F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C2A-8DB4-49EC-8E69-F0B28CE1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D47-FEFA-4B94-AE7F-FFA673B1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A8D-012A-4777-BAC9-56CDDDA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054-DEC8-498C-98EB-5ACED390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A535-7E23-48D7-B1D7-89FD6F3876C2}" type="datetime">
              <a: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</a:rPr>
              <a:t>CSE351 Course Project Tu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00FD-AE9E-4B64-B844-56081EE9CB6A}" type="slidenum">
              <a: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9A62-1D71-48D1-97AB-099966684B45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E351 Course Project Tu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5828-089B-44B3-AA31-8251E0818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7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75EC-F3D4-463D-BA22-57F453578290}" type="datetime">
              <a: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</a:rPr>
              <a:t>CSE351 Course Project Tu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0E20-5431-4FB6-A53A-3C99462B1709}" type="slidenum">
              <a: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zhan@cse.unl.edu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se.unl.edu/~dzhan/wiki/index.php5/Cse351:Fall_2011:Pre_Project_Lab#Download_the_Nios-II_Soft_CPU_to_the_FPGA_Platform" TargetMode="External"/><Relationship Id="rId2" Type="http://schemas.openxmlformats.org/officeDocument/2006/relationships/hyperlink" Target="http://cse.unl.edu/~dzhan/wiki/index.php5/Cse351:Fall_2011:Pre_Project_Lab#Create_a_Nios-II_C_Project" TargetMode="External"/><Relationship Id="rId3" Type="http://schemas.openxmlformats.org/officeDocument/2006/relationships/hyperlink" Target="http://cse.unl.edu/~dzhan/wiki/index.php5/Cse351:Fall_2011:Pre_Project_Lab#Build_the_Projec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se.unl.edu/~dzhan/wiki/index.php5/Cse351:Fall_2011:Pre_Project_Lab#Observe_the_FPGA_Platform_Output" TargetMode="External"/><Relationship Id="rId2" Type="http://schemas.openxmlformats.org/officeDocument/2006/relationships/hyperlink" Target="http://cse.unl.edu/~dzhan/wiki/index.php5/Cse351:Fall_2011:Pre_Project_Lab#Debug_the_Projec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oject_management" TargetMode="External"/><Relationship Id="rId2" Type="http://schemas.openxmlformats.org/officeDocument/2006/relationships/hyperlink" Target="http://code.google.com/hosting/createProjec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se.unl.edu/~dzhan/wiki/images/Nios-II_Handbook.pdf" TargetMode="External"/><Relationship Id="rId2" Type="http://schemas.openxmlformats.org/officeDocument/2006/relationships/hyperlink" Target="http://cse.unl.edu/~dzhan/wiki/images/Instruction_Set_Reference_for_Nios-II_Soft_CPUs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photos/66755201@N04/sets/72157627524789258/detail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altera.com/download/software/quartus-ii-we/11.0sp1" TargetMode="External"/><Relationship Id="rId2" Type="http://schemas.openxmlformats.org/officeDocument/2006/relationships/hyperlink" Target="http://www.virtualbox.org/wiki/Mac%20OS%20X%20build%20instruction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ltera.com/download/drivers/usb-blaster/dri-usb-blaster-xp.html" TargetMode="External"/><Relationship Id="rId2" Type="http://schemas.openxmlformats.org/officeDocument/2006/relationships/hyperlink" Target="http://www.altera.com/download/drivers/usb-blaster/dri-usb-blaster-vist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e.unl.edu/~dzhan/wiki/images/DE2_NIOS-II.zip" TargetMode="External"/><Relationship Id="rId2" Type="http://schemas.openxmlformats.org/officeDocument/2006/relationships/hyperlink" Target="http://cse.unl.edu/~dzhan/wiki/images/DE1_NIOS-II.zi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32b7"/>
                </a:solidFill>
                <a:latin typeface="Times New Roman"/>
                <a:ea typeface="宋体"/>
              </a:rPr>
              <a:t>CSE351 Course Project Tutorial</a:t>
            </a:r>
            <a:endParaRPr b="1" lang="en-US" sz="3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y Dongyuan Zh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dzhan@cse.unl.ed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960D-0C45-45AB-902F-3205779D3736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F901-A08D-44F1-AC4A-4C8F558207A1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2158920" y="1424160"/>
            <a:ext cx="4762440" cy="44668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4159080" y="3003480"/>
            <a:ext cx="1447920" cy="1393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6" name="Rectangular Callout 8"/>
          <p:cNvSpPr/>
          <p:nvPr/>
        </p:nvSpPr>
        <p:spPr>
          <a:xfrm>
            <a:off x="6910560" y="2416320"/>
            <a:ext cx="1493640" cy="337680"/>
          </a:xfrm>
          <a:prstGeom prst="wedgeRectCallout">
            <a:avLst>
              <a:gd name="adj1" fmla="val -137611"/>
              <a:gd name="adj2" fmla="val 331148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FPGA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2143080" y="2319480"/>
            <a:ext cx="86040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8" name="Oval 10"/>
          <p:cNvSpPr/>
          <p:nvPr/>
        </p:nvSpPr>
        <p:spPr>
          <a:xfrm>
            <a:off x="2828880" y="1185840"/>
            <a:ext cx="676440" cy="1535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9" name="Rectangular Callout 11"/>
          <p:cNvSpPr/>
          <p:nvPr/>
        </p:nvSpPr>
        <p:spPr>
          <a:xfrm>
            <a:off x="446040" y="2958840"/>
            <a:ext cx="1494000" cy="580680"/>
          </a:xfrm>
          <a:prstGeom prst="wedgeRectCallout">
            <a:avLst>
              <a:gd name="adj1" fmla="val 70041"/>
              <a:gd name="adj2" fmla="val -88537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Power Button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0" name="Rectangular Callout 12"/>
          <p:cNvSpPr/>
          <p:nvPr/>
        </p:nvSpPr>
        <p:spPr>
          <a:xfrm>
            <a:off x="420840" y="1303920"/>
            <a:ext cx="1495440" cy="580680"/>
          </a:xfrm>
          <a:prstGeom prst="wedgeRectCallout">
            <a:avLst>
              <a:gd name="adj1" fmla="val 110046"/>
              <a:gd name="adj2" fmla="val 18833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USB Blaster Port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Altera DE-1 Board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1A22-3B4C-45FB-83BF-00696DC8F104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9D2E-8B86-4378-9FBC-34A7ED727148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ownload the Nios-II Soft CPU to the FPGA Plat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cse.unl.edu/~dzhan/wiki/index.php5/Cse351:Fall_2011:Pre_Project_Lab#Download_the_Nios-II_Soft_CPU_to_the_FPGA_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 a Nios-II C Projec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cse.unl.edu/~dzhan/wiki/index.php5/Cse351:Fall_2011:Pre_Project_Lab#Create_a_Nios-II_C_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ild the Projec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3"/>
              </a:rPr>
              <a:t>http://cse.unl.edu/~dzhan/wiki/index.php5/Cse351:Fall_2011:Pre_Project_Lab#Build_the_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Step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EEBE-2E88-433A-8CF1-4FA3FC53CB83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7C18-3352-4240-8766-C0F980466516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bserve the FPGA Platform Outpu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cse.unl.edu/~dzhan/wiki/index.php5/Cse351:Fall_2011:Pre_Project_Lab#Observe_the_FPGA_Platform_Out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bug the Projec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cse.unl.edu/~dzhan/wiki/index.php5/Cse351:Fall_2011:Pre_Project_Lab#Debug_the_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Step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23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-Lab (by Sep. 2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 submission is requi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I (by Oct.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design and report need to be sub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II (by Nov. 1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design and report need to be sub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III (by Dec. 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design and report need to be sub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93CF-5622-42F4-8734-AF61A75EE16D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92F1-306D-487B-AC75-1FC2D0A723B9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Times New Roman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Mileston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llowing is the grading criteria with a total of 100 points for any projects. But different projects may carry different weights in your final grad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report: 50%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rectness of the program: 40%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tailed source code comments and README: 10%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ypically, all members in a team will get the same grade for a project, unless the team leader or other members report to the lab TA that someone contributes little to the project and he/she should get only a certain percentage (e.g., 90%) of the team’s grad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45D4-272F-4E54-B4C4-E127F5B5EF14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0231-BEF4-4494-8B75-A39CD05001B7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Grading Criter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as early as you ca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o good project management (e.g., risk anticip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en.wikipedia.org/wiki/Project_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o efficient team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version control system to manage your source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VN/Mecurial/Git (on Windows/Uni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code.google.com/hosting/create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e active in discussing with the T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E38C-7F38-410C-91AA-EB7974F87708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82DB-218A-4AE8-9084-2B386740E400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Some Suggestions for Your Succes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os-II Software Developer's Hand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cse.unl.edu/~dzhan/wiki/images/Nios-II_Handbook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struction Set Reference for Nios-II Soft C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cse.unl.edu/~dzhan/wiki/images/Instruction_Set_Reference_for_Nios-II_Soft_CPUs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rdware Abstraction Layer API Re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cse.unl.edu/~dzhan/wiki/images/Hardware_Abstraction_Layer_API_Reference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FE84-E1A6-4A95-A59C-A03DB03056EF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B013-1501-43D8-AF28-1CA216B04E2C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Resourc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sing Assembly in the C 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cse.unl.edu/~dzhan/wiki/images/Using_Assembly_in_the_C_Source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 &amp; ASM in Nios-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cse.unl.edu/~dzhan/wiki/images/C%26ASM_in_Nios-II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ltera Document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altera.com/literature/lit-index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ltera Development 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alteraforum.com/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934C-0F2A-4AB2-B9A9-DED3EEDAA9EB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39B6-53F1-4FC0-B0C0-8AFABDDA9378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Resourc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Enjoy Your Course Projects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795F-6E02-49A1-A778-03D3E9335D7F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ACF5-0785-4B4C-B664-35F35BB2A31F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Q &amp; 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Objec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three projects will lead you to eventually create your own prototype OS on a bare-system FPGA boar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in genuine understanding of the OS kernel principles from hands-on experien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e efficient teamwork and effective project management skills that make your work splendi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AEA2-F2E3-4AAE-8EF2-1D57273B0589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Times New Roman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FD5D-6EA2-4F89-87B7-A60D4F4FDF68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EC13-B8D3-40EC-950A-6FEC7A9D8779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F004-66B5-4673-A5A5-6DF9350658C1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878040" y="1193760"/>
            <a:ext cx="7324560" cy="4927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Overvie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98040" y="1193400"/>
            <a:ext cx="7683480" cy="521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ne Lab + Three Projects (on a team basis, accounting for 40% of your final grad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-project L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%, by 09/2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to prepare you for the 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I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%, by 10/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: to design a timer interrupt hand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II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, by 11/1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: to devise multithreading and scheduling mechanis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III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%, by 12/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: to provide a synchronization mechanism for the coordination among multiple threa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CE59-B7AE-4950-924E-55A9BB5C2E13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FB07-39AA-4070-B729-C5C05211F37A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Task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 teams have been formed, with 2-3 members in each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www.flickr.com/photos/66755201@N04/sets/72157627524789258/detail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group should have a team leader who schedules and coordinates group events and submits your work to the hand-in syste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team will be provided ≥2 FPGA boards. You can use your personal computer or a Lab machine to manipulate the boards, as long as the required software is install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5486-3802-48AD-B7B0-C4DC23A27F50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7AB1-5189-4965-A828-B02B24AA5E8A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Tea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rd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ltera DE-2/DE-1 bo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artus-II Web Edition 11.0sp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 also includ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ios-II v11.0 Software Build Tools for Eclip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s://www.altera.com/download/software/quartus-ii-we/11.0sp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download registration requir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rtualbox (only for Mac use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www.virtualbox.org/wiki/Mac%20OS%20X%20build%20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8835-3236-412A-A6FE-6C7C278785E7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344D-C628-44C0-AE46-64783C8B7695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8" name="Footer Placeholder 5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Times New Roman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Infrastru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SB Blaster Dri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 enables DE-2 to communicate with your comp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w to install it can be found 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XP: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www.altera.com/download/drivers/usb-blaster/dri-usb-blaster-xp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7/VISTA: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www.altera.com/download/drivers/usb-blaster/dri-usb-blaster-vista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36AF-6BA7-4A63-9707-D4452971F017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4528-878C-47EB-9470-962B990ED151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Infrastru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os-II Soft-Core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essentially a VHDL/Verilog design that configures the FPGA to function as a CP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2 Version: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cse.unl.edu/~dzhan/wiki/images/DE2_NIOS-II.z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1 Version: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cse.unl.edu/~dzhan/wiki/images/DE1_NIOS-II.z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E1E1-014A-4F66-A8D9-44F5C83783F1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9B66-CC53-4EC5-B153-20F4AA49DDF9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Infrastru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1660-88AF-47AF-8267-8BB94883996F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31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B727-6812-4462-88D2-5DB2C503A193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1409760" y="1193760"/>
            <a:ext cx="6261120" cy="4927680"/>
          </a:xfrm>
          <a:prstGeom prst="rect">
            <a:avLst/>
          </a:prstGeom>
          <a:ln w="0">
            <a:noFill/>
          </a:ln>
        </p:spPr>
      </p:pic>
      <p:sp>
        <p:nvSpPr>
          <p:cNvPr id="174" name="Oval 6"/>
          <p:cNvSpPr/>
          <p:nvPr/>
        </p:nvSpPr>
        <p:spPr>
          <a:xfrm>
            <a:off x="1262160" y="2048040"/>
            <a:ext cx="860400" cy="475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898880" y="3025800"/>
            <a:ext cx="1447920" cy="1393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1947960" y="880920"/>
            <a:ext cx="676080" cy="1535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7" name="Rectangular Callout 10"/>
          <p:cNvSpPr/>
          <p:nvPr/>
        </p:nvSpPr>
        <p:spPr>
          <a:xfrm>
            <a:off x="7650000" y="2438640"/>
            <a:ext cx="1494000" cy="337680"/>
          </a:xfrm>
          <a:prstGeom prst="wedgeRectCallout">
            <a:avLst>
              <a:gd name="adj1" fmla="val -137615"/>
              <a:gd name="adj2" fmla="val 331574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FPGA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8" name="Rectangular Callout 12"/>
          <p:cNvSpPr/>
          <p:nvPr/>
        </p:nvSpPr>
        <p:spPr>
          <a:xfrm>
            <a:off x="0" y="1271520"/>
            <a:ext cx="1494000" cy="580680"/>
          </a:xfrm>
          <a:prstGeom prst="wedgeRectCallout">
            <a:avLst>
              <a:gd name="adj1" fmla="val 40143"/>
              <a:gd name="adj2" fmla="val 98884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Power Button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9" name="Rectangular Callout 13"/>
          <p:cNvSpPr/>
          <p:nvPr/>
        </p:nvSpPr>
        <p:spPr>
          <a:xfrm>
            <a:off x="138240" y="30960"/>
            <a:ext cx="1495440" cy="580680"/>
          </a:xfrm>
          <a:prstGeom prst="wedgeRectCallout">
            <a:avLst>
              <a:gd name="adj1" fmla="val 71490"/>
              <a:gd name="adj2" fmla="val 191449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USB Blaster Port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Altera DE-2 Board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Leonard951</dc:creator>
  <dc:description/>
  <dc:language>en-US</dc:language>
  <cp:lastModifiedBy>Leonard951</cp:lastModifiedBy>
  <cp:lastPrinted>1998-07-14T21:04:32Z</cp:lastPrinted>
  <dcterms:modified xsi:type="dcterms:W3CDTF">2011-09-14T19:17:17Z</dcterms:modified>
  <cp:revision>289</cp:revision>
  <dc:subject/>
  <dc:title>EECS 252 Graduate Computer Architecture   Lec 01 - Introduction</dc:title>
</cp:coreProperties>
</file>